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64D29F-910D-4B38-B4C1-E6EEED220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070F20-1C8B-4C17-B966-76D7381A4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FBA18C-8895-4BBF-9B16-064188D12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B1728B-FC6C-4D64-8C11-1AF26A46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B55832-2AF4-49F8-B1C9-8F2196A0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70FFFF-F749-49EB-ABA8-C82F55784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0A158D-6A9C-479A-8646-6E1D89BFC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A4D66B-81EB-4245-A909-007892C4A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BB0EE2-CD4F-4569-A766-4CB5F6299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606851-505B-495F-A163-570086719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3AD28C-0EB8-4CB4-A651-CE80253DA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5D8025-B894-47F1-B06D-A0A463D6D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E9B1F8-2340-4439-BAFE-82E25B80F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CF2406-24AC-4A98-A28A-E471E7B12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F1251F-260B-44D0-8297-CE42D5F49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A4BF97-4B51-44CC-841C-C6350938C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A18AE0-A4E6-4412-B708-8882D901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6E5286-5227-418F-8DFC-997293B6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C62E5D-EBAD-4EDE-9255-43357E9D9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BB23DC-1FB6-4DB7-B8BE-2F3849516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5C474D-62C6-48F3-A458-AC4398E5C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CDB359-BE22-4541-95B4-3D8FBA546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F67748-540F-42B5-93D6-ACA324A15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6CF276-560D-4266-ADDC-0325D01F7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2F8B51-BBBF-437D-B988-81615844A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9EF120-4484-443A-AD0B-FAC5104EA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7ED28B-9032-45FC-B9CE-0393BEEE0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CA2772-2482-48F0-8F6F-E2194F8F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9D53C8-2F79-4072-A18A-2498F5DB3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E15BC9-BF45-4335-A968-4CE77174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E58A-53A7-4CBC-9EBB-38BE219A6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FC82AC-26C8-4525-AA08-E9E63B582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EBC673-B76C-47BF-8E5C-6F542096B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1A0845-E223-4596-88CA-18CC7F946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7CD40D-6310-4CB9-AABD-CCDFABF9C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3B0897-626D-44D0-AD61-A45BDC6A0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806DCF-E907-42F9-889D-054B25840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02F9ED-B022-4511-AED8-F3549C19A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4DDBB9-0B46-4959-9AAE-AD33CD3EF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2203FD-8E82-44C6-986F-E3E9A6E0F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3B7FA9-CB63-4FC7-A8FB-7B57BC821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A464-E325-43B8-95FC-764FBE444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7EEA8F-90F6-499D-AF51-CB549941E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CE4B77-C69D-4355-BF16-BE7408090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0510BC-C69A-423B-A622-F60C03317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770A94-8B0F-451A-A422-F43580F76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2C2155-35F2-4002-97A3-E0106DF64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8576-8DD8-4934-8AF2-586423EE0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87E5-4F3F-41E1-B260-9642F1A33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34AA-754D-4482-9620-3A143ACB0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0B59-724A-462D-B3CA-25DE9BF42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EC97-41A5-4C23-96E9-D2CC3685A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B2DB-E79C-47C5-A483-EB3ABCF9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34B8-C9D3-48D3-BB8B-006DCBC0E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6AF4-7695-4184-8F5F-3B7C48AA6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FD88-ADEC-441B-ABEC-4660B1494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CC45-9C97-43A2-BD94-7FA6AB0CA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E8214-0A0B-4AE6-8505-42D330B98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6A8EA-BC4A-47CC-A284-A9EF475F8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31061-4FAA-43CA-9B41-49DA1B605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8DDDD-28AE-41F5-894D-C6FFF30D9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3D118-7000-49DE-85AB-C50BB4609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BFC42-2156-4743-A4E6-F4A16F627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81F2F-CA63-4F95-BEF6-CDE0B9F1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3B17E-BC6D-4632-B0A1-6B1971E9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37D8A-2808-46C8-833B-2CF067EA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485F0-9D54-4167-BC80-62FB3623E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9C521-A0CD-41B8-8347-D55A42C5F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B3D57-2E90-45CB-A9E6-703C4B800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177DC-8800-4F59-B547-C44A00D9B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B56D8-89A1-47B3-9C69-061D63C2F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7BE51-BC33-4AE2-89D1-2DB1E0BE6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3517D-5A5D-4D52-97D4-A07DBC929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A4EBB-8F90-4244-98F1-75CB9E911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49D03-E643-4748-9414-E5C5661E0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63552-9FB6-41EC-A2A8-30749DE6E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0E82C-6C92-4EDD-B6EB-7047BB5DA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E411E-D771-4601-9CB1-8CFB3A50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AF608-4B79-43BA-869B-F1FBF27B8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8266D-27EA-4270-9E91-0B9FD04FB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37139-9F2D-4038-85C7-A9F63428B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998F6-AC0E-442E-8ACB-B193337B0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296B3-3813-4BDD-8F42-0A4435FB3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AE28A-6E79-4B0B-B6B6-068FADB0F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8161B-2FD6-49F0-B476-46BCACDD2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C7750-77A0-47F4-9F26-C6AE3FD0A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4BBC1-077A-4280-AF3E-72BF0839F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1E73E-18D4-4E0B-8BFA-CEE42A9B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98513-C169-4A60-A2C1-B18F22FF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1FA58-7833-4E84-A7A5-E980D7409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613E6-29EC-41A7-88F6-C72181266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BC8A0-9A7D-4ECF-A4B5-6A9C527F7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4927D-CE6E-4459-8905-9CE64A0E7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1D76FE-66CE-4C24-9841-4661532D0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892117-0E0B-4A30-8372-2DB23A8C4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0A209E-E8CC-495B-907F-52D14DFA7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36D58-2107-414E-817B-FEC273F47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77DBD-6B77-4A1E-969F-C42115B8A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4B1DBE-EC8C-4DD4-84CE-C7B92411E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42340B-5EF5-4FDC-89DB-E3DAC0DFD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3D829-45F7-4B67-AF0C-FBE5A672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6E5E37-688F-437A-BFC4-64BA7869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95ADD1-76EE-46D4-83E4-5D44F761D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C50990-EE8D-440F-9D8C-040742458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66420E-7CD3-4B8C-9C25-32292503F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FEA80-A9F3-45A2-85A9-464FAB8D1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3D882D-FBC0-4765-989B-81518E382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E3DEC2-4498-49E0-8BB9-9EA476D29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A254B5-502C-460C-85E9-FEC3EB74D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2DBE7C-054C-46C5-87F2-891A1B96A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1141F1-D09B-4728-AC23-8F174236A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6AC280-B200-4467-88D1-F9B7AB15D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017D8E-9068-4C40-AE1C-F6BB01BFF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08DB89-F6BD-4F08-8BD1-97EF09179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E7CAE9-260E-4E47-8936-CEC7254C0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ED9FD8-6A04-402A-8C0F-3A22239F5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28BCD-F177-4C90-892A-6E2892BA6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CFE6CD-141F-48F4-9E4E-89FEAE044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59340B-3039-4BFD-A4FE-3EA189AA0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D73B8D-FCCA-4CFB-B7A3-C1AD23B39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48354E-5931-4E5E-B329-F96BA56E4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F278AA-990E-4217-AA6C-4C2D0E691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1899F7-DCEC-4813-8FD2-C301A7144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9D3D90-E3C1-41BD-A484-785B547F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16964D-4F30-4B4C-B42F-99A78E29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E1D4AE-FF60-43D4-8A6B-AD9F26C6B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C35DDB-632A-45A1-98EB-9498AC5D0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9FD442-5A08-4D26-AA83-A38043808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CFFA18-0BD6-493C-8CBA-6CE16DA06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BFD4C8-B33F-49E6-882E-F9FAB13E0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2AB2C8-ACAE-47EB-BFB7-29F5793C1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B5BE19-E8C6-4FE8-8EEF-033122003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9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02BC6-BC1E-432D-A2E9-5059DED57F4B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4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78F4F-DE4F-49C0-A164-57D3CE94BAE6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8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69E64-0A96-4512-A4B1-6AD1AA359DA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2B6E1-5D6B-4C54-8DE9-0399F3A99BB9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8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E4A2D-23CB-456D-92FC-1FA1FC4193AD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B4701-4BCD-47F6-99F5-7BFCBE9EF47D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7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EBE62-B4D1-4483-A577-04CDC8A9985B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2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E10B2-8D35-403A-B1FE-E7642C5DE149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6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4E1EA-B4F3-4941-B23E-582EA802DAC9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11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F05C0-39DB-4DE8-AE32-0F7C08BF9B17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5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74BAB-A4AA-4BBE-AE49-553ABD11DB29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escentralização da Gestão do município de Ponte Alta do Bom Jes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2187F-6114-432A-8044-757B69EC3405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Tabela 4" descr=""/>
          <p:cNvPicPr/>
          <p:nvPr/>
        </p:nvPicPr>
        <p:blipFill>
          <a:blip r:embed="rId1"/>
          <a:stretch/>
        </p:blipFill>
        <p:spPr>
          <a:xfrm>
            <a:off x="212760" y="1712880"/>
            <a:ext cx="807732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12:40:42Z</dcterms:created>
  <dc:creator>Cleison Lima Moura</dc:creator>
  <dc:description/>
  <dc:language>en-US</dc:language>
  <cp:lastModifiedBy>marleidesilva</cp:lastModifiedBy>
  <cp:lastPrinted>2017-04-12T15:53:19Z</cp:lastPrinted>
  <dcterms:modified xsi:type="dcterms:W3CDTF">2017-04-19T19:16:40Z</dcterms:modified>
  <cp:revision>929</cp:revision>
  <dc:subject/>
  <dc:title>Apresentação do PowerPoint</dc:title>
</cp:coreProperties>
</file>